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F62-E8B5-479F-BE9A-4A3D0FB3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F2A-517E-487B-9672-46556A8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EE5-28B4-4A6F-BC4B-27B38CA1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042-0631-468A-AD12-2EF4BF67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1BF4-C20D-4A91-9EB2-F6F3C103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9352-CE24-4577-BFDD-8266A36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816-259D-4352-919A-D72DCC2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F09-5424-4F83-8C5E-1914443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1609-F371-422F-AF41-9AA7B08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4BA8-3506-4BAB-BAFA-A566B40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826-33BF-461F-AD2C-B3690BE5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E34-81C3-47EF-A97A-03EDF831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936D-6109-4887-AF7E-DA0A799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92C-AB6D-4A05-B97C-8B95058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8FD8-7903-4DC0-8B8A-D2541B11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5243-222F-4642-84BC-96AC77C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FD3-5475-4E4D-8F98-7C2D18C1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2D3B-C509-4C69-AB2D-12C707B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C731-0A3C-41FA-994F-26F3B9B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C303-5682-4918-9B45-1E071A4D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A755-EB3C-4446-B677-AC6EA050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5BBE-C062-4D8C-9768-53E79559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C6B-1C76-4836-82A4-B3EAE443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6059-8016-4464-956E-D163B984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0C7F-308D-4611-9AAC-6202166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4E8E-AD18-46A5-85A3-D5EC580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A333-1AB1-4CE7-A487-873385CB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C30D-72E4-4F6A-B9A5-63311C2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B566-C4E6-4FE2-8262-9F274967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8850-E76E-4235-B8BB-5C6074D2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61D4-1EEB-401F-B44E-A47F673B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92F0-088D-4DE9-8727-11CEBE91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C8F7-BA17-4F21-8BAB-6EA41FA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966-C17F-4DF4-BEEE-9EFCF631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F3FA-7EEE-412C-966F-BB9D04D3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318B-049B-4DF2-864B-C6F3DE81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CB64-3C97-410C-AADB-CCDCEDF3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9237-F407-409F-A422-3B9C978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A867-86E5-4D3E-9E2C-9465121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AD96-440B-4196-AA0B-B35A97D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480F4-F0EE-4BCA-84AB-D216F6C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8C5F-85B7-4FF3-B012-80CA8376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95576-CE8C-45FF-B1AA-C38703B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1A4C-8829-4418-9471-183C767E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458-63F7-439D-A045-3204891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CC44-D585-49FC-BA3B-CC8B308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2BC37-C0BF-450F-A966-DF4E450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5EDA-11AD-4E21-9081-D0DF856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45E1-7A9B-4E11-BF55-6508D47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2034-1EBB-42F6-AE53-846C75B6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B453-AF4D-4312-9F0B-FB6BE33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4B19-2D75-4FF1-96E6-C1818AA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310C-152A-4072-868C-D5A603C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B307-C1F0-4233-A9D8-7ED0D2BE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948F5-F2F3-4EDE-8AB5-CFD298B5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C2C-8F83-410F-8DC6-82EF6A1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4FD6-D013-4848-8298-00A30FF8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ECA-D099-4078-8108-820261B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505-84D1-4334-9632-88DCBF4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EB3-E043-437A-BDF8-E7BC810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61F-667F-4C34-92A7-79C02EB6BCAA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4A4-5DA2-4279-825A-67F2269D52B2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1090-7B3E-414B-8225-CCCD688B4D36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9FF1-910D-45E0-88A9-DDDD7554FE07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4B3C-65C9-409C-8F34-62012EF433E7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ompara  y  Contrasta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1" name="Picture 3" descr="grafico - gianna1m.JPG"/>
          <p:cNvPicPr/>
          <p:nvPr/>
        </p:nvPicPr>
        <p:blipFill>
          <a:blip r:embed="rId1"/>
          <a:srcRect l="0" t="37779" r="0" b="10511"/>
          <a:stretch/>
        </p:blipFill>
        <p:spPr>
          <a:xfrm>
            <a:off x="0" y="1523880"/>
            <a:ext cx="4419720" cy="368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grafico - parker1mc.JPG"/>
          <p:cNvPicPr/>
          <p:nvPr/>
        </p:nvPicPr>
        <p:blipFill>
          <a:blip r:embed="rId2"/>
          <a:srcRect l="-391" t="38892" r="1350" b="10948"/>
          <a:stretch/>
        </p:blipFill>
        <p:spPr>
          <a:xfrm>
            <a:off x="4495680" y="152388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5" descr=""/>
          <p:cNvPicPr/>
          <p:nvPr/>
        </p:nvPicPr>
        <p:blipFill>
          <a:blip r:embed="rId3"/>
          <a:stretch/>
        </p:blipFill>
        <p:spPr>
          <a:xfrm>
            <a:off x="1584360" y="5284800"/>
            <a:ext cx="123192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6" descr=""/>
          <p:cNvPicPr/>
          <p:nvPr/>
        </p:nvPicPr>
        <p:blipFill>
          <a:blip r:embed="rId4"/>
          <a:stretch/>
        </p:blipFill>
        <p:spPr>
          <a:xfrm>
            <a:off x="5937120" y="5284800"/>
            <a:ext cx="183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05720" y="0"/>
            <a:ext cx="22399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1 Mill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6" name="Picture 2" descr="grafico - gianna1m.JPG"/>
          <p:cNvPicPr/>
          <p:nvPr/>
        </p:nvPicPr>
        <p:blipFill>
          <a:blip r:embed="rId1"/>
          <a:srcRect l="0" t="37780" r="0" b="10516"/>
          <a:stretch/>
        </p:blipFill>
        <p:spPr>
          <a:xfrm>
            <a:off x="2711520" y="2057400"/>
            <a:ext cx="6432480" cy="48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grafico - gianna1m.JPG"/>
          <p:cNvPicPr/>
          <p:nvPr/>
        </p:nvPicPr>
        <p:blipFill>
          <a:blip r:embed="rId2"/>
          <a:srcRect l="0" t="0" r="2255" b="62224"/>
          <a:stretch/>
        </p:blipFill>
        <p:spPr>
          <a:xfrm>
            <a:off x="0" y="0"/>
            <a:ext cx="3873600" cy="2057400"/>
          </a:xfrm>
          <a:prstGeom prst="rect">
            <a:avLst/>
          </a:prstGeom>
          <a:ln w="0">
            <a:noFill/>
          </a:ln>
        </p:spPr>
      </p:pic>
      <p:pic>
        <p:nvPicPr>
          <p:cNvPr id="228" name="color mas popular 1m.MP3" descr=""/>
          <p:cNvPicPr/>
          <p:nvPr/>
        </p:nvPicPr>
        <p:blipFill>
          <a:blip r:embed="rId3"/>
          <a:stretch/>
        </p:blipFill>
        <p:spPr>
          <a:xfrm>
            <a:off x="0" y="2438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304920" y="2362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a clase de Mrs. Mi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 el color mas pop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olor verde 1m.MP3" descr=""/>
          <p:cNvPicPr/>
          <p:nvPr/>
        </p:nvPicPr>
        <p:blipFill>
          <a:blip r:embed="rId4"/>
          <a:stretch/>
        </p:blipFill>
        <p:spPr>
          <a:xfrm>
            <a:off x="0" y="3733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380880" y="36576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estudiantes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572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estudiante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neg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color negro 1m.MP3" descr=""/>
          <p:cNvPicPr/>
          <p:nvPr/>
        </p:nvPicPr>
        <p:blipFill>
          <a:blip r:embed="rId5"/>
          <a:stretch/>
        </p:blipFill>
        <p:spPr>
          <a:xfrm>
            <a:off x="0" y="5410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56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272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0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5744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1 McGroarty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35" name="Picture 3" descr="grafico - parker1mc.JPG"/>
          <p:cNvPicPr/>
          <p:nvPr/>
        </p:nvPicPr>
        <p:blipFill>
          <a:blip r:embed="rId1"/>
          <a:srcRect l="-397" t="38888" r="0" b="10947"/>
          <a:stretch/>
        </p:blipFill>
        <p:spPr>
          <a:xfrm>
            <a:off x="2592360" y="2133720"/>
            <a:ext cx="6551640" cy="472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grafico - parker1mc.JPG"/>
          <p:cNvPicPr/>
          <p:nvPr/>
        </p:nvPicPr>
        <p:blipFill>
          <a:blip r:embed="rId2"/>
          <a:srcRect l="0" t="0" r="7238" b="62225"/>
          <a:stretch/>
        </p:blipFill>
        <p:spPr>
          <a:xfrm>
            <a:off x="0" y="0"/>
            <a:ext cx="4083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304920" y="2362320"/>
            <a:ext cx="41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a clase de M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Groarty los col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populares 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jo,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zu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orad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rosad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olores populares 1mc.MP3" descr=""/>
          <p:cNvPicPr/>
          <p:nvPr/>
        </p:nvPicPr>
        <p:blipFill>
          <a:blip r:embed="rId3"/>
          <a:stretch/>
        </p:blipFill>
        <p:spPr>
          <a:xfrm>
            <a:off x="0" y="2819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380880" y="41148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estudiantes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olor verde 1mc.MP3" descr=""/>
          <p:cNvPicPr/>
          <p:nvPr/>
        </p:nvPicPr>
        <p:blipFill>
          <a:blip r:embed="rId4"/>
          <a:stretch/>
        </p:blipFill>
        <p:spPr>
          <a:xfrm>
            <a:off x="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380880" y="5410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estudiante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neg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olor negro 1mc.MP3" descr=""/>
          <p:cNvPicPr/>
          <p:nvPr/>
        </p:nvPicPr>
        <p:blipFill>
          <a:blip r:embed="rId5"/>
          <a:stretch/>
        </p:blipFill>
        <p:spPr>
          <a:xfrm>
            <a:off x="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6256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24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344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4"/>
          <p:cNvSpPr/>
          <p:nvPr/>
        </p:nvSpPr>
        <p:spPr>
          <a:xfrm>
            <a:off x="609480" y="2666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45720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 Rounded MT Bold"/>
              </a:rPr>
              <a:t>Loralei  en  1Mc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5105520" y="26668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502920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Rounded MT Bold"/>
              </a:rPr>
              <a:t>Lily  en  1Mc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533520" y="57913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502920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color favorito 1mc.MP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color favorito1 - 1mc.MP3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51" name="color favorito rojo ahser 1m.MP3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457200" y="3809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her en  1M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lor favorito rojo jack 1m.MP3" descr=""/>
          <p:cNvPicPr/>
          <p:nvPr/>
        </p:nvPicPr>
        <p:blipFill>
          <a:blip r:embed="rId4"/>
          <a:stretch/>
        </p:blipFill>
        <p:spPr>
          <a:xfrm>
            <a:off x="6248520" y="45720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4572000" y="3886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Arial Rounded MT Bold"/>
              </a:rPr>
              <a:t>Jack Se en  1M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189080" y="2160"/>
            <a:ext cx="65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Bodoni MT Black"/>
                <a:ea typeface="Calibri"/>
              </a:rPr>
              <a:t>¿Cuál es tu color favorito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768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8064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576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76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Verdana"/>
              </a:rPr>
              <a:t>GRACIAS  POR  ESCUCHAR!!</a:t>
            </a:r>
            <a:endParaRPr b="1" lang="en-US" sz="6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57" name="Picture 3" descr="C:\Documents and Settings\mfama\Local Settings\Temporary Internet Files\Content.IE5\MAFC28U2\MP900399215[1].jpg"/>
          <p:cNvPicPr/>
          <p:nvPr/>
        </p:nvPicPr>
        <p:blipFill>
          <a:blip r:embed="rId1"/>
          <a:stretch/>
        </p:blipFill>
        <p:spPr>
          <a:xfrm>
            <a:off x="57150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Documents and Settings\mfama\Local Settings\Temporary Internet Files\Content.IE5\MAFC28U2\MC900439849[1].wmf"/>
          <p:cNvPicPr/>
          <p:nvPr/>
        </p:nvPicPr>
        <p:blipFill>
          <a:blip r:embed="rId2"/>
          <a:stretch/>
        </p:blipFill>
        <p:spPr>
          <a:xfrm>
            <a:off x="914400" y="2209680"/>
            <a:ext cx="2403360" cy="2067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143000" y="472428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Goudy Stout"/>
              </a:rPr>
              <a:t>AD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C:\Documents and Settings\mfama\Local Settings\Temporary Internet Files\Content.IE5\MGRAVFZT\MC900434918[1].png"/>
          <p:cNvPicPr/>
          <p:nvPr/>
        </p:nvPicPr>
        <p:blipFill>
          <a:blip r:embed="rId3"/>
          <a:stretch/>
        </p:blipFill>
        <p:spPr>
          <a:xfrm rot="20584800">
            <a:off x="74160" y="5287680"/>
            <a:ext cx="1995480" cy="199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Documents and Settings\mfama\Local Settings\Temporary Internet Files\Content.IE5\KGR07S7Z\MC900104844[1].wmf"/>
          <p:cNvPicPr/>
          <p:nvPr/>
        </p:nvPicPr>
        <p:blipFill>
          <a:blip r:embed="rId4"/>
          <a:stretch/>
        </p:blipFill>
        <p:spPr>
          <a:xfrm rot="443400">
            <a:off x="6933960" y="5810040"/>
            <a:ext cx="18190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49:12Z</dcterms:created>
  <dc:creator>Tech</dc:creator>
  <dc:description/>
  <dc:language>en-US</dc:language>
  <cp:lastModifiedBy>Tech</cp:lastModifiedBy>
  <dcterms:modified xsi:type="dcterms:W3CDTF">2011-11-22T13:32:43Z</dcterms:modified>
  <cp:revision>10</cp:revision>
  <dc:subject/>
  <dc:title>Slide 1</dc:title>
</cp:coreProperties>
</file>